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8574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57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857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8574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8574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8574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857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400" y="3857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8574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8574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857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400" y="3857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8574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0800" y="38574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3240" y="38574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857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857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574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f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34800" y="643716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39600"/>
                </a:solidFill>
                <a:latin typeface="Trebuchet MS"/>
              </a:rPr>
              <a:t>www.</a:t>
            </a:r>
            <a:r>
              <a:rPr b="1" lang="en-US" sz="1400" spc="-1" strike="noStrike">
                <a:solidFill>
                  <a:srgbClr val="00549f"/>
                </a:solidFill>
                <a:latin typeface="Trebuchet MS"/>
              </a:rPr>
              <a:t>inffer</a:t>
            </a:r>
            <a:r>
              <a:rPr b="1" lang="en-US" sz="1400" spc="-1" strike="noStrike">
                <a:solidFill>
                  <a:srgbClr val="739600"/>
                </a:solidFill>
                <a:latin typeface="Trebuchet MS"/>
              </a:rPr>
              <a:t>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8000" y="6134040"/>
            <a:ext cx="1800000" cy="67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90792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f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8000" y="44280"/>
            <a:ext cx="1800000" cy="679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487280" y="38736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39600"/>
                </a:solidFill>
                <a:latin typeface="Trebuchet MS"/>
              </a:rPr>
              <a:t>www.</a:t>
            </a:r>
            <a:r>
              <a:rPr b="1" lang="en-US" sz="1400" spc="-1" strike="noStrike">
                <a:solidFill>
                  <a:srgbClr val="00549f"/>
                </a:solidFill>
                <a:latin typeface="Trebuchet MS"/>
              </a:rPr>
              <a:t>inffer</a:t>
            </a:r>
            <a:r>
              <a:rPr b="1" lang="en-US" sz="1400" spc="-1" strike="noStrike">
                <a:solidFill>
                  <a:srgbClr val="739600"/>
                </a:solidFill>
                <a:latin typeface="Trebuchet MS"/>
              </a:rPr>
              <a:t>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205680"/>
            <a:ext cx="9144000" cy="679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f5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07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Public and private benefits</a:t>
            </a:r>
            <a:br>
              <a:rPr sz="4400"/>
            </a:br>
            <a:r>
              <a:rPr b="0" lang="en-AU" sz="2400" spc="-1" strike="noStrike">
                <a:solidFill>
                  <a:srgbClr val="97f5ff"/>
                </a:solidFill>
                <a:latin typeface="Arial"/>
              </a:rPr>
              <a:t>and choice of environmental policy instruments</a:t>
            </a:r>
            <a:endParaRPr b="0" lang="en-US" sz="2400" spc="-1" strike="noStrike">
              <a:solidFill>
                <a:srgbClr val="97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Lag to adoption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63640" y="1743120"/>
            <a:ext cx="583416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97f5ff"/>
                </a:solidFill>
                <a:latin typeface="Arial"/>
              </a:rPr>
              <a:t>Extension</a:t>
            </a:r>
            <a:endParaRPr b="0" lang="en-US" sz="48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56320" y="2133720"/>
            <a:ext cx="0" cy="3352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345440" cy="4050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28120" y="5734080"/>
            <a:ext cx="79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tension has learning costs, and </a:t>
            </a: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reduces, but doesn’t eliminate, the lag to adopt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850160" cy="45925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7f5ff"/>
                </a:solidFill>
                <a:latin typeface="Arial"/>
              </a:rPr>
              <a:t>Positive incentives</a:t>
            </a:r>
            <a:br>
              <a:rPr sz="4000"/>
            </a:br>
            <a:r>
              <a:rPr b="0" lang="en-AU" sz="2400" spc="-1" strike="noStrike">
                <a:solidFill>
                  <a:srgbClr val="97f5ff"/>
                </a:solidFill>
                <a:latin typeface="Arial"/>
              </a:rPr>
              <a:t>can speed adoption that would have occurred eventually</a:t>
            </a:r>
            <a:endParaRPr b="0" lang="en-US" sz="2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5640" y="3214800"/>
            <a:ext cx="240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Lag is long enoug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to be worth pay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incen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5148000" y="3069720"/>
            <a:ext cx="64764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7f5ff"/>
                </a:solidFill>
                <a:latin typeface="Arial"/>
              </a:rPr>
              <a:t>New map for positive incentives and extension</a:t>
            </a:r>
            <a:endParaRPr b="0" lang="en-US" sz="4000" spc="-1" strike="noStrike">
              <a:solidFill>
                <a:srgbClr val="97f5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8720" y="1628640"/>
            <a:ext cx="7559640" cy="43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7f5ff"/>
                </a:solidFill>
                <a:latin typeface="Arial"/>
              </a:rPr>
              <a:t>Technology change</a:t>
            </a:r>
            <a:br>
              <a:rPr sz="4000"/>
            </a:br>
            <a:r>
              <a:rPr b="0" lang="en-AU" sz="2800" spc="-1" strike="noStrike">
                <a:solidFill>
                  <a:srgbClr val="97f5ff"/>
                </a:solidFill>
                <a:latin typeface="Arial"/>
              </a:rPr>
              <a:t>can move a project</a:t>
            </a:r>
            <a:endParaRPr b="0" lang="en-US" sz="2800" spc="-1" strike="noStrike">
              <a:solidFill>
                <a:srgbClr val="97f5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8720" y="1628640"/>
            <a:ext cx="7559640" cy="4399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635280" y="414828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56000" y="328464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12536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203640" y="2563920"/>
            <a:ext cx="0" cy="122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BCR </a:t>
            </a:r>
            <a:r>
              <a:rPr b="0" lang="en-AU" sz="4400" spc="-1" strike="noStrike">
                <a:solidFill>
                  <a:srgbClr val="97f5ff"/>
                </a:solidFill>
                <a:latin typeface="Arial"/>
                <a:ea typeface="Arial"/>
              </a:rPr>
              <a:t>≥</a:t>
            </a: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14188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76720" y="1341360"/>
            <a:ext cx="5040360" cy="46785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7f5ff"/>
                </a:solidFill>
                <a:latin typeface="Arial"/>
              </a:rPr>
              <a:t>BCR </a:t>
            </a:r>
            <a:r>
              <a:rPr b="0" lang="en-AU" sz="4000" spc="-1" strike="noStrike">
                <a:solidFill>
                  <a:srgbClr val="97f5ff"/>
                </a:solidFill>
                <a:latin typeface="Arial"/>
                <a:ea typeface="Arial"/>
              </a:rPr>
              <a:t>≥</a:t>
            </a:r>
            <a:r>
              <a:rPr b="0" lang="en-AU" sz="4000" spc="-1" strike="noStrike">
                <a:solidFill>
                  <a:srgbClr val="97f5ff"/>
                </a:solidFill>
                <a:latin typeface="Arial"/>
              </a:rPr>
              <a:t> 2</a:t>
            </a:r>
            <a:br>
              <a:rPr sz="4000"/>
            </a:br>
            <a:r>
              <a:rPr b="0" lang="en-AU" sz="2400" spc="-1" strike="noStrike">
                <a:solidFill>
                  <a:srgbClr val="97f5ff"/>
                </a:solidFill>
                <a:latin typeface="Arial"/>
              </a:rPr>
              <a:t>This version is more targeted</a:t>
            </a:r>
            <a:endParaRPr b="0" lang="en-US" sz="2400" spc="-1" strike="noStrike">
              <a:solidFill>
                <a:srgbClr val="97f5ff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66560" y="2228760"/>
            <a:ext cx="6984720" cy="3020040"/>
            <a:chOff x="466560" y="2228760"/>
            <a:chExt cx="6984720" cy="3020040"/>
          </a:xfrm>
        </p:grpSpPr>
        <p:sp>
          <p:nvSpPr>
            <p:cNvPr id="144" name=""/>
            <p:cNvSpPr/>
            <p:nvPr/>
          </p:nvSpPr>
          <p:spPr>
            <a:xfrm>
              <a:off x="466560" y="2228760"/>
              <a:ext cx="237636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97f5ff"/>
                  </a:solidFill>
                  <a:latin typeface="Times New Roman"/>
                </a:rPr>
                <a:t>Even if public benefits are high, incentives or extension are only selected over quite narrow ranges of private benefits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35280" y="2228760"/>
              <a:ext cx="792000" cy="0"/>
            </a:xfrm>
            <a:prstGeom prst="line">
              <a:avLst/>
            </a:prstGeom>
            <a:ln w="38160">
              <a:solidFill>
                <a:srgbClr val="6d6fc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98920" y="2228760"/>
              <a:ext cx="1152360" cy="0"/>
            </a:xfrm>
            <a:prstGeom prst="line">
              <a:avLst/>
            </a:prstGeom>
            <a:ln w="38160">
              <a:solidFill>
                <a:srgbClr val="6d6fc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f5ff"/>
                </a:solidFill>
                <a:latin typeface="Arial"/>
              </a:rPr>
              <a:t>Implications for public programs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hoice of policy tool matters greatly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Depends on individual situation of environmental asset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f5ff"/>
                </a:solidFill>
                <a:latin typeface="Arial"/>
              </a:rPr>
              <a:t>Case-by-case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hoice of assets to protect and policy tool should be made jointly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Best projects have private net benefits close to zero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f5ff"/>
                </a:solidFill>
                <a:latin typeface="Arial"/>
              </a:rPr>
              <a:t>Implications for public programs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Are we getting it roughly right in environmental programs?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f5ff"/>
                </a:solidFill>
                <a:latin typeface="Arial"/>
              </a:rPr>
              <a:t>In many cases, no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Over-used policy tool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f5ff"/>
                </a:solidFill>
                <a:latin typeface="Arial"/>
              </a:rPr>
              <a:t>Extension, small temporary grants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Under-used policy tool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f5ff"/>
                </a:solidFill>
                <a:latin typeface="Arial"/>
              </a:rPr>
              <a:t>Technology change 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f5ff"/>
                </a:solidFill>
                <a:latin typeface="Arial"/>
              </a:rPr>
              <a:t>Tightly targeted larger grants or regulation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Affiliations of the INFFER team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97f5ff"/>
                </a:solidFill>
                <a:latin typeface="Arial"/>
              </a:rPr>
              <a:t>University of Western Australia</a:t>
            </a:r>
            <a:endParaRPr b="1" lang="en-US" sz="20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97f5ff"/>
                </a:solidFill>
                <a:latin typeface="Arial"/>
              </a:rPr>
              <a:t>Department of Primary Industries, Victoria</a:t>
            </a:r>
            <a:endParaRPr b="1" lang="en-US" sz="20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97f5ff"/>
                </a:solidFill>
                <a:latin typeface="Arial"/>
              </a:rPr>
              <a:t>North Central Catchment Management Authority</a:t>
            </a:r>
            <a:endParaRPr b="1" lang="en-US" sz="20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97f5ff"/>
                </a:solidFill>
                <a:latin typeface="Arial"/>
              </a:rPr>
              <a:t>Future Farm Industries CRC</a:t>
            </a:r>
            <a:endParaRPr b="1" lang="en-US" sz="2000" spc="-1" strike="noStrike">
              <a:solidFill>
                <a:srgbClr val="97f5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Other key funder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97f5ff"/>
                </a:solidFill>
                <a:latin typeface="Arial"/>
              </a:rPr>
              <a:t>Australian Research Council (Federation Fellow Program)</a:t>
            </a:r>
            <a:endParaRPr b="1" lang="en-US" sz="20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97f5ff"/>
                </a:solidFill>
                <a:latin typeface="Arial"/>
              </a:rPr>
              <a:t>Department of the Environment, Water, Heritage and the Arts (CERF Program)</a:t>
            </a:r>
            <a:endParaRPr b="1" lang="en-US" sz="20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97f5ff"/>
                </a:solidFill>
                <a:latin typeface="Arial"/>
              </a:rPr>
              <a:t>Department of Sustainability and Environment , Victoria</a:t>
            </a:r>
            <a:endParaRPr b="1" lang="en-US" sz="20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629320"/>
            <a:ext cx="9144000" cy="12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8000" y="5805360"/>
            <a:ext cx="1224000" cy="939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488960" y="5908680"/>
            <a:ext cx="1008000" cy="727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072040" y="5715000"/>
            <a:ext cx="853920" cy="1079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6084720" y="5742000"/>
            <a:ext cx="3024360" cy="1028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2556000" y="5950080"/>
            <a:ext cx="239688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f5ff"/>
                </a:solidFill>
                <a:latin typeface="Arial"/>
              </a:rPr>
              <a:t>Context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Policy aims to influence the behaviour of people to generate positive externalities or avoid negative externalitie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or example, changes in land management to increase environmental benefits or decrease environmental costs 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Public and private benefits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Private benefits” relate to the landholder making the decisions (internal)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Public benefits” relate to all others (external)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neighbours, downstream water users, city dwellers interested in biodiversity 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987640" y="1341360"/>
            <a:ext cx="5573880" cy="4618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Possible projects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1720800"/>
            <a:ext cx="252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Each dot is a set of land-use changes on specific pieces of land = a proje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04160" y="2862360"/>
            <a:ext cx="913680" cy="781560"/>
            <a:chOff x="6104160" y="2862360"/>
            <a:chExt cx="913680" cy="781560"/>
          </a:xfrm>
        </p:grpSpPr>
        <p:sp>
          <p:nvSpPr>
            <p:cNvPr id="92" name=""/>
            <p:cNvSpPr/>
            <p:nvPr/>
          </p:nvSpPr>
          <p:spPr>
            <a:xfrm>
              <a:off x="6450480" y="2862360"/>
              <a:ext cx="198000" cy="188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04160" y="3063240"/>
              <a:ext cx="913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ff0000"/>
                  </a:solidFill>
                  <a:latin typeface="Arial"/>
                </a:rPr>
                <a:t>Lucer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ff0000"/>
                  </a:solidFill>
                  <a:latin typeface="Arial"/>
                </a:rPr>
                <a:t>Farm 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113360" y="2816280"/>
            <a:ext cx="1104120" cy="580680"/>
            <a:chOff x="4113360" y="2816280"/>
            <a:chExt cx="1104120" cy="580680"/>
          </a:xfrm>
        </p:grpSpPr>
        <p:sp>
          <p:nvSpPr>
            <p:cNvPr id="95" name=""/>
            <p:cNvSpPr/>
            <p:nvPr/>
          </p:nvSpPr>
          <p:spPr>
            <a:xfrm>
              <a:off x="4113360" y="2880000"/>
              <a:ext cx="198000" cy="188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03800" y="2816280"/>
              <a:ext cx="913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ff0000"/>
                  </a:solidFill>
                  <a:latin typeface="Arial"/>
                </a:rPr>
                <a:t>Lucer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ff0000"/>
                  </a:solidFill>
                  <a:latin typeface="Arial"/>
                </a:rPr>
                <a:t>Farm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230880" y="5070600"/>
            <a:ext cx="1195560" cy="949680"/>
            <a:chOff x="6230880" y="5070600"/>
            <a:chExt cx="1195560" cy="949680"/>
          </a:xfrm>
        </p:grpSpPr>
        <p:sp>
          <p:nvSpPr>
            <p:cNvPr id="98" name=""/>
            <p:cNvSpPr/>
            <p:nvPr/>
          </p:nvSpPr>
          <p:spPr>
            <a:xfrm>
              <a:off x="6624720" y="5070600"/>
              <a:ext cx="197640" cy="187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30880" y="5196240"/>
              <a:ext cx="1195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ff0000"/>
                  </a:solidFill>
                  <a:latin typeface="Arial"/>
                </a:rPr>
                <a:t>Forestry 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ff0000"/>
                  </a:solidFill>
                  <a:latin typeface="Arial"/>
                </a:rPr>
                <a:t>wat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ff0000"/>
                  </a:solidFill>
                  <a:latin typeface="Arial"/>
                </a:rPr>
                <a:t>catchm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067360" y="3500280"/>
            <a:ext cx="944280" cy="824040"/>
            <a:chOff x="5067360" y="3500280"/>
            <a:chExt cx="944280" cy="824040"/>
          </a:xfrm>
        </p:grpSpPr>
        <p:sp>
          <p:nvSpPr>
            <p:cNvPr id="101" name=""/>
            <p:cNvSpPr/>
            <p:nvPr/>
          </p:nvSpPr>
          <p:spPr>
            <a:xfrm>
              <a:off x="5813640" y="3564000"/>
              <a:ext cx="198000" cy="188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67360" y="3500280"/>
              <a:ext cx="912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ff0000"/>
                  </a:solidFill>
                  <a:latin typeface="Arial"/>
                </a:rPr>
                <a:t>Current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ff0000"/>
                  </a:solidFill>
                  <a:latin typeface="Arial"/>
                </a:rPr>
                <a:t>practi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52360" y="3500280"/>
            <a:ext cx="237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Which tool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en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395280" y="1647720"/>
          <a:ext cx="8280360" cy="3106800"/>
        </p:xfrm>
        <a:graphic>
          <a:graphicData uri="http://schemas.openxmlformats.org/drawingml/2006/table">
            <a:tbl>
              <a:tblPr/>
              <a:tblGrid>
                <a:gridCol w="2403360"/>
                <a:gridCol w="587700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pecific policy mechanisms includ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itive incen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inancial or regulatory instruments</a:t>
                      </a:r>
                      <a:r>
                        <a:rPr b="0" lang="en-AU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to encourage chang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egative incen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inancial or regulatory instruments</a:t>
                      </a:r>
                      <a:r>
                        <a:rPr b="0" lang="en-AU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to inhibit chan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ten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echnology transfer, education, communication, demonstrations, support for community netwo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echnology chan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velopment of improved land management options, e.g. through strategic R&amp;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 a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66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formed ina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324000" y="5516640"/>
            <a:ext cx="86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ncludes polluter-pays mechanisms (command and control, pollution tax, tradable permits, offsets) and beneficiary-pays mechanisms (subsidies, conservation auctions and tenders)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Alternative policy mechanisms </a:t>
            </a:r>
            <a:br>
              <a:rPr sz="4400"/>
            </a:br>
            <a:r>
              <a:rPr b="0" lang="en-AU" sz="2400" spc="-1" strike="noStrike">
                <a:solidFill>
                  <a:srgbClr val="97f5ff"/>
                </a:solidFill>
                <a:latin typeface="Arial"/>
              </a:rPr>
              <a:t>for seeking changes on private lands</a:t>
            </a:r>
            <a:endParaRPr b="0" lang="en-US" sz="2400" spc="-1" strike="noStrike">
              <a:solidFill>
                <a:srgbClr val="97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7f5ff"/>
                </a:solidFill>
                <a:latin typeface="Arial"/>
              </a:rPr>
              <a:t>Simple rules</a:t>
            </a:r>
            <a:br>
              <a:rPr sz="4000"/>
            </a:br>
            <a:r>
              <a:rPr b="0" lang="en-AU" sz="2400" spc="-1" strike="noStrike">
                <a:solidFill>
                  <a:srgbClr val="97f5ff"/>
                </a:solidFill>
                <a:latin typeface="Arial"/>
              </a:rPr>
              <a:t>for allocating mechanisms to projects</a:t>
            </a:r>
            <a:endParaRPr b="0" lang="en-US" sz="2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402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rebuchet MS"/>
              </a:rPr>
              <a:t>1. No positive incentives for land-use change unless public net benefits of change are positive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4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rebuchet MS"/>
              </a:rPr>
              <a:t>2. No positive incentives if landholders would adopt land-use changes without those incentives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4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rebuchet MS"/>
              </a:rPr>
              <a:t>3. No positive incentives if costs outweigh benefits overall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88000" y="1989000"/>
            <a:ext cx="4356000" cy="3730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148360" y="3762360"/>
            <a:ext cx="3843360" cy="1611360"/>
          </a:xfrm>
          <a:prstGeom prst="rect">
            <a:avLst/>
          </a:prstGeom>
          <a:solidFill>
            <a:srgbClr val="006462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93080" y="2133720"/>
            <a:ext cx="1942920" cy="3240000"/>
          </a:xfrm>
          <a:prstGeom prst="rect">
            <a:avLst/>
          </a:prstGeom>
          <a:solidFill>
            <a:srgbClr val="006462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48360" y="2131920"/>
            <a:ext cx="3911400" cy="3241800"/>
          </a:xfrm>
          <a:prstGeom prst="rtTriangle">
            <a:avLst/>
          </a:prstGeom>
          <a:solidFill>
            <a:srgbClr val="006462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Simple rules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4475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ffffff"/>
                </a:solidFill>
                <a:latin typeface="Trebuchet MS"/>
              </a:rPr>
              <a:t>4. No extension unless the change being advocated would generate positive private net benefits (the practice is ‘adoptable’). </a:t>
            </a:r>
            <a:endParaRPr b="0" lang="en-US" sz="23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ffffff"/>
                </a:solidFill>
                <a:latin typeface="Trebuchet MS"/>
              </a:rPr>
              <a:t>5. No extension where a change would generate negative net public benefits</a:t>
            </a:r>
            <a:endParaRPr b="0" lang="en-US" sz="23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ffffff"/>
                </a:solidFill>
                <a:latin typeface="Trebuchet MS"/>
              </a:rPr>
              <a:t>6. … 10. see web site</a:t>
            </a:r>
            <a:endParaRPr b="0" lang="en-US" sz="23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88000" y="1989000"/>
            <a:ext cx="4356000" cy="3730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148360" y="2117880"/>
            <a:ext cx="1942920" cy="3240000"/>
          </a:xfrm>
          <a:prstGeom prst="rect">
            <a:avLst/>
          </a:prstGeom>
          <a:solidFill>
            <a:srgbClr val="006462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48360" y="3762360"/>
            <a:ext cx="3843360" cy="1611360"/>
          </a:xfrm>
          <a:prstGeom prst="rect">
            <a:avLst/>
          </a:prstGeom>
          <a:solidFill>
            <a:srgbClr val="006462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7f5ff"/>
                </a:solidFill>
                <a:latin typeface="Arial"/>
              </a:rPr>
              <a:t>Simple public-private framework</a:t>
            </a:r>
            <a:endParaRPr b="0" lang="en-US" sz="4400" spc="-1" strike="noStrike">
              <a:solidFill>
                <a:srgbClr val="97f5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5545080" cy="47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That was based only on simple rule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rebuchet MS"/>
              </a:rPr>
              <a:t>The following slides account for additional complexitie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Costs of learning/transition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Lags to adoption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Partial effectiveness of extension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7f5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7f5ff"/>
                </a:solidFill>
                <a:latin typeface="Arial"/>
              </a:rPr>
              <a:t>Transaction costs</a:t>
            </a:r>
            <a:endParaRPr b="1" lang="en-US" sz="2400" spc="-1" strike="noStrike">
              <a:solidFill>
                <a:srgbClr val="97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40:38Z</dcterms:created>
  <dc:creator>Dave Pannell</dc:creator>
  <dc:description/>
  <dc:language>en-US</dc:language>
  <cp:lastModifiedBy>David Pannell</cp:lastModifiedBy>
  <dcterms:modified xsi:type="dcterms:W3CDTF">2009-08-27T23:41:22Z</dcterms:modified>
  <cp:revision>117</cp:revision>
  <dc:subject/>
  <dc:title>Suggested criteria for rankings</dc:title>
</cp:coreProperties>
</file>