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2.wmf" ContentType="image/x-wmf"/>
  <Override PartName="/ppt/media/image29.wmf" ContentType="image/x-wmf"/>
  <Override PartName="/ppt/media/image1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7.png" ContentType="image/png"/>
  <Override PartName="/ppt/media/image32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0.png" ContentType="image/png"/>
  <Override PartName="/ppt/media/image28.wmf" ContentType="image/x-wmf"/>
  <Override PartName="/ppt/media/image30.png" ContentType="image/png"/>
  <Override PartName="/ppt/media/image13.jpeg" ContentType="image/jpeg"/>
  <Override PartName="/ppt/media/image31.wmf" ContentType="image/x-wmf"/>
  <Override PartName="/ppt/media/image19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5.wmf" ContentType="image/x-wmf"/>
  <Override PartName="/ppt/media/image23.jpeg" ContentType="image/jpeg"/>
  <Override PartName="/ppt/media/image12.png" ContentType="image/png"/>
  <Override PartName="/ppt/media/image2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6.jpeg" ContentType="image/jpeg"/>
  <Override PartName="/ppt/media/image2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8574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8574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8574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8574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8574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8574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60" y="38574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400" y="38574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8574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60" y="38574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8574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400" y="38574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360" y="38574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0800" y="38574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33240" y="38574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8574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8574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574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f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5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534800" y="6437160"/>
            <a:ext cx="15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39600"/>
                </a:solidFill>
                <a:latin typeface="Trebuchet MS"/>
              </a:rPr>
              <a:t>www.</a:t>
            </a:r>
            <a:r>
              <a:rPr b="1" lang="en-US" sz="1400" spc="-1" strike="noStrike">
                <a:solidFill>
                  <a:srgbClr val="00549f"/>
                </a:solidFill>
                <a:latin typeface="Trebuchet MS"/>
              </a:rPr>
              <a:t>inffer</a:t>
            </a:r>
            <a:r>
              <a:rPr b="1" lang="en-US" sz="1400" spc="-1" strike="noStrike">
                <a:solidFill>
                  <a:srgbClr val="739600"/>
                </a:solidFill>
                <a:latin typeface="Trebuchet MS"/>
              </a:rPr>
              <a:t>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8000" y="6134040"/>
            <a:ext cx="1800000" cy="67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90792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f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8000" y="44280"/>
            <a:ext cx="1800000" cy="679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487280" y="387360"/>
            <a:ext cx="15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39600"/>
                </a:solidFill>
                <a:latin typeface="Trebuchet MS"/>
              </a:rPr>
              <a:t>www.</a:t>
            </a:r>
            <a:r>
              <a:rPr b="1" lang="en-US" sz="1400" spc="-1" strike="noStrike">
                <a:solidFill>
                  <a:srgbClr val="00549f"/>
                </a:solidFill>
                <a:latin typeface="Trebuchet MS"/>
              </a:rPr>
              <a:t>inffer</a:t>
            </a:r>
            <a:r>
              <a:rPr b="1" lang="en-US" sz="1400" spc="-1" strike="noStrike">
                <a:solidFill>
                  <a:srgbClr val="739600"/>
                </a:solidFill>
                <a:latin typeface="Trebuchet MS"/>
              </a:rPr>
              <a:t>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205680"/>
            <a:ext cx="9144000" cy="679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f5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ffer.org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79668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97f5ff"/>
                </a:solidFill>
                <a:latin typeface="Arial"/>
              </a:rPr>
              <a:t>INFFER </a:t>
            </a:r>
            <a:br>
              <a:rPr sz="4000"/>
            </a:br>
            <a:r>
              <a:rPr b="0" lang="en-AU" sz="2000" spc="-1" strike="noStrike">
                <a:solidFill>
                  <a:srgbClr val="97f5ff"/>
                </a:solidFill>
                <a:latin typeface="Arial"/>
              </a:rPr>
              <a:t>(Investment Framework For Environmental Resources)</a:t>
            </a:r>
            <a:endParaRPr b="0" lang="en-US" sz="20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440" y="43653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ffffff"/>
                </a:solidFill>
                <a:latin typeface="Trebuchet MS"/>
              </a:rPr>
              <a:t>Background and Overview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What sorts of projects?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Ones that will deliver NRM outcomes for identifiable natural assets, which can be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large or small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degraded or pristine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localised or dispersed 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any sort of natural asset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No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Untargeted capacity building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M&amp;E not linked to a specific project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R&amp;D not linked to a specific asset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97f5ff"/>
                </a:solidFill>
                <a:latin typeface="Arial"/>
              </a:rPr>
              <a:t>INFFER Pre-Assessment Checklist </a:t>
            </a:r>
            <a:endParaRPr b="0" lang="en-US" sz="40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ffffff"/>
                </a:solidFill>
                <a:latin typeface="Trebuchet MS"/>
              </a:rPr>
              <a:t>Asset focus</a:t>
            </a:r>
            <a:endParaRPr b="0" lang="en-US" sz="21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Trebuchet MS"/>
              </a:rPr>
              <a:t>1. Can you clearly identify the environmental or natural resource asset? </a:t>
            </a:r>
            <a:endParaRPr b="0" lang="en-US" sz="21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Trebuchet MS"/>
              </a:rPr>
              <a:t>2. Will it be possible to define a goal for the asset that is “SMART”? </a:t>
            </a:r>
            <a:endParaRPr b="0" lang="en-US" sz="21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ffffff"/>
                </a:solidFill>
                <a:latin typeface="Trebuchet MS"/>
              </a:rPr>
              <a:t>Cost-effectiveness</a:t>
            </a:r>
            <a:endParaRPr b="0" lang="en-US" sz="21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Trebuchet MS"/>
              </a:rPr>
              <a:t>3. Is there evidence to indicate that management actions can make a real difference? </a:t>
            </a:r>
            <a:endParaRPr b="0" lang="en-US" sz="21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Trebuchet MS"/>
              </a:rPr>
              <a:t>4. If the desired management actions are mainly on private land, is it likely that those actions would be reasonably attractive to fully informed land managers when adopted over the required scale? </a:t>
            </a:r>
            <a:endParaRPr b="0" lang="en-US" sz="21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Trebuchet MS"/>
              </a:rPr>
              <a:t>5. If the project requires change by other institutions is there a good chance that this will occur? </a:t>
            </a:r>
            <a:endParaRPr b="0" lang="en-US" sz="21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7f5ff"/>
                </a:solidFill>
                <a:latin typeface="Arial"/>
              </a:rPr>
              <a:t>North Central CMA</a:t>
            </a:r>
            <a:endParaRPr b="0" lang="en-US" sz="4000" spc="-1" strike="noStrike">
              <a:solidFill>
                <a:srgbClr val="97f5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542960"/>
            <a:ext cx="7777080" cy="4341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284720" y="0"/>
            <a:ext cx="46083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90792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The INFFER Process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f5ff"/>
                </a:solidFill>
                <a:latin typeface="Arial"/>
              </a:rPr>
              <a:t>INFFER process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an be applied to individual assets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f5ff"/>
                </a:solidFill>
                <a:latin typeface="Arial"/>
              </a:rPr>
              <a:t>Run small number of cherry-picked assets through the process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f5ff"/>
                </a:solidFill>
                <a:latin typeface="Arial"/>
              </a:rPr>
              <a:t>Helps with project development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f5ff"/>
                </a:solidFill>
                <a:latin typeface="Arial"/>
              </a:rPr>
              <a:t>Helps assess whether it is worth pursuing the project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Better to be a comprehensive process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f5ff"/>
                </a:solidFill>
                <a:latin typeface="Arial"/>
              </a:rPr>
              <a:t>Community consultation + other info sources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f5ff"/>
                </a:solidFill>
                <a:latin typeface="Arial"/>
              </a:rPr>
              <a:t>A more comprehensive look at the project options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Comprehensive process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8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rebuchet MS"/>
              </a:rPr>
              <a:t>1. Develop a list of significant natural assets in the relevant region(s)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444600" indent="0">
              <a:lnSpc>
                <a:spcPct val="8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rebuchet MS"/>
              </a:rPr>
              <a:t>2. Apply an initial filter to the asset list, using a simplified set of criteria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444600" indent="0">
              <a:lnSpc>
                <a:spcPct val="8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rebuchet MS"/>
              </a:rPr>
              <a:t>3. Define projects and conduct detailed assessments of them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444600" indent="0">
              <a:lnSpc>
                <a:spcPct val="8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rebuchet MS"/>
              </a:rPr>
              <a:t>4. Select priority project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444600" indent="0">
              <a:lnSpc>
                <a:spcPct val="8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rebuchet MS"/>
              </a:rPr>
              <a:t>5. Develop investment plans or funding proposal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444600" indent="0">
              <a:lnSpc>
                <a:spcPct val="8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rebuchet MS"/>
              </a:rPr>
              <a:t>6. Implement funded project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444600" indent="0">
              <a:lnSpc>
                <a:spcPct val="8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rebuchet MS"/>
              </a:rPr>
              <a:t>7. Monitor, evaluate and adaptively manage project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f5ff"/>
                </a:solidFill>
                <a:latin typeface="Arial"/>
              </a:rPr>
              <a:t>Rationale for the process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7138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Starts broad, with far too many assets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Reduce list somewhat with simplified criteria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No point in great sophistication at this stage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Few enough make it through to make a good assessment practica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How long does it take?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New user: around 5 person-days per asset to complete Project Assessment Form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Experienced user: 1-2 days per asset, if information and experts accessible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Could be extended to encompass detailed modelling if desired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What skills needed?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Ideally, good knowledge of asset(s)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Able to engage with experts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Understand NRM projects – some experience in implementation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Capture and interpret technical and socio-economic information 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Make judgements based on partial information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f5ff"/>
                </a:solidFill>
                <a:latin typeface="Arial"/>
              </a:rPr>
              <a:t>INFFER and knowledge gaps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Makes the best of the available info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aptures key knowledge gaps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Ratings for quality of information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Possible outcomes 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f5ff"/>
                </a:solidFill>
                <a:latin typeface="Arial"/>
              </a:rPr>
              <a:t>Project to fill knowledge gaps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f5ff"/>
                </a:solidFill>
                <a:latin typeface="Arial"/>
              </a:rPr>
              <a:t>Data collection/investigation within the project 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f5ff"/>
                </a:solidFill>
                <a:latin typeface="Arial"/>
              </a:rPr>
              <a:t>Feasibility assessment as phase 1 of project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aptures risks of project failure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Context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Budgets small compared to the problems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Environmental protection more expensive than we’ve often allowed for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patial heterogeneity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Prioritisation is essential but difficul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90792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Project Assessment Form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Project Assessment Form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Completed for every projec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Could be more than one alternative project for the same asse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Guided process to collect the required information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Detailed instruction manua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Project Assessment Form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Web-based 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Instructions hidden until needed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Automate calculations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Easy navigation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FAQs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Example responses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427640" y="2800440"/>
            <a:ext cx="464508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f5ff"/>
                </a:solidFill>
                <a:latin typeface="Arial"/>
              </a:rPr>
              <a:t>1. The asset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patial definition of the asse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ignificance/importance of the asse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Key threats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Existing projects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f5ff"/>
                </a:solidFill>
                <a:latin typeface="Arial"/>
              </a:rPr>
              <a:t>2. Goal, works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tting a specific, measurable, time-bound goa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On-ground actions to achieve goa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Actions by other organisations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Time lags until benefits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Effectiveness of works 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Risk of technical failure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pin-offs (positive and negative)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f5ff"/>
                </a:solidFill>
                <a:latin typeface="Arial"/>
              </a:rPr>
              <a:t>3. Socio-economics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Anticipated adoption of works by private land/water managers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f5ff"/>
                </a:solidFill>
                <a:latin typeface="Arial"/>
              </a:rPr>
              <a:t>Encompasses community capacity and knowledge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Risk of practice changes for the worse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Approvals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ocio-economic risks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f5ff"/>
                </a:solidFill>
                <a:latin typeface="Arial"/>
              </a:rPr>
              <a:t>4. Budget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Delivery mechanisms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f5ff"/>
                </a:solidFill>
                <a:latin typeface="Arial"/>
              </a:rPr>
              <a:t>Private citizens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f5ff"/>
                </a:solidFill>
                <a:latin typeface="Arial"/>
              </a:rPr>
              <a:t>Other organisations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Works, investigation and management 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osts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f5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7f5ff"/>
                </a:solidFill>
                <a:latin typeface="Arial"/>
              </a:rPr>
              <a:t>Up front (3-5 years)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f5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7f5ff"/>
                </a:solidFill>
                <a:latin typeface="Arial"/>
              </a:rPr>
              <a:t>Long-term maintenance costs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5. Project info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Project title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Project summary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Funder’s targets and outcomes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Outputs and intermediate outcomes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796680"/>
            <a:ext cx="8207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Public and private benefits</a:t>
            </a:r>
            <a:br>
              <a:rPr sz="4400"/>
            </a:br>
            <a:r>
              <a:rPr b="0" lang="en-AU" sz="2400" spc="-1" strike="noStrike">
                <a:solidFill>
                  <a:srgbClr val="97f5ff"/>
                </a:solidFill>
                <a:latin typeface="Arial"/>
              </a:rPr>
              <a:t>and choice of NRM policy instruments</a:t>
            </a:r>
            <a:endParaRPr b="0" lang="en-US" sz="2400" spc="-1" strike="noStrike">
              <a:solidFill>
                <a:srgbClr val="97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97f5ff"/>
                </a:solidFill>
                <a:latin typeface="Arial"/>
              </a:rPr>
              <a:t>Public: private benefits framework</a:t>
            </a:r>
            <a:endParaRPr b="0" lang="en-US" sz="40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Selects the most appropriate policy tool for a given circumstance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Relevant to change on private land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Institutional context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oncerns about outcomes from regional investmen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Treasury, Australian National Audit Office concerns about value for public money from NRM investmen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Greater focus on outcomes in Caring for our Country and by some state governments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Public and private benefits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Private benefits” relate to the landholder making the decisions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Public benefits” relate to all others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neighbours, downstream water users, city dwellers interested in biodiversity 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843280" y="981000"/>
            <a:ext cx="6078600" cy="50371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Possible projects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1720800"/>
            <a:ext cx="252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Each dot is a set of land-use changes on specific pieces of land = a proje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230520" y="2638440"/>
            <a:ext cx="913680" cy="812520"/>
            <a:chOff x="6230520" y="2638440"/>
            <a:chExt cx="913680" cy="812520"/>
          </a:xfrm>
        </p:grpSpPr>
        <p:sp>
          <p:nvSpPr>
            <p:cNvPr id="168" name=""/>
            <p:cNvSpPr/>
            <p:nvPr/>
          </p:nvSpPr>
          <p:spPr>
            <a:xfrm>
              <a:off x="6607080" y="2638440"/>
              <a:ext cx="216000" cy="216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30520" y="2870280"/>
              <a:ext cx="913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ff0000"/>
                  </a:solidFill>
                  <a:latin typeface="Arial"/>
                </a:rPr>
                <a:t>Lucer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ff0000"/>
                  </a:solidFill>
                  <a:latin typeface="Arial"/>
                </a:rPr>
                <a:t>Farm 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067280" y="2560680"/>
            <a:ext cx="1122480" cy="580680"/>
            <a:chOff x="4067280" y="2560680"/>
            <a:chExt cx="1122480" cy="580680"/>
          </a:xfrm>
        </p:grpSpPr>
        <p:sp>
          <p:nvSpPr>
            <p:cNvPr id="171" name=""/>
            <p:cNvSpPr/>
            <p:nvPr/>
          </p:nvSpPr>
          <p:spPr>
            <a:xfrm>
              <a:off x="4067280" y="2633760"/>
              <a:ext cx="216000" cy="216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76080" y="2560680"/>
              <a:ext cx="913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ff0000"/>
                  </a:solidFill>
                  <a:latin typeface="Arial"/>
                </a:rPr>
                <a:t>Lucer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ff0000"/>
                  </a:solidFill>
                  <a:latin typeface="Arial"/>
                </a:rPr>
                <a:t>Farm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374520" y="5013360"/>
            <a:ext cx="1195560" cy="968400"/>
            <a:chOff x="6374520" y="5013360"/>
            <a:chExt cx="1195560" cy="968400"/>
          </a:xfrm>
        </p:grpSpPr>
        <p:sp>
          <p:nvSpPr>
            <p:cNvPr id="174" name=""/>
            <p:cNvSpPr/>
            <p:nvPr/>
          </p:nvSpPr>
          <p:spPr>
            <a:xfrm>
              <a:off x="6805440" y="5013360"/>
              <a:ext cx="215640" cy="216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74520" y="5157720"/>
              <a:ext cx="1195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ff0000"/>
                  </a:solidFill>
                  <a:latin typeface="Arial"/>
                </a:rPr>
                <a:t>Forestry in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ff0000"/>
                  </a:solidFill>
                  <a:latin typeface="Arial"/>
                </a:rPr>
                <a:t>water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ff0000"/>
                  </a:solidFill>
                  <a:latin typeface="Arial"/>
                </a:rPr>
                <a:t>catch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095080" y="3309840"/>
            <a:ext cx="1031040" cy="824040"/>
            <a:chOff x="5095080" y="3309840"/>
            <a:chExt cx="1031040" cy="824040"/>
          </a:xfrm>
        </p:grpSpPr>
        <p:sp>
          <p:nvSpPr>
            <p:cNvPr id="177" name=""/>
            <p:cNvSpPr/>
            <p:nvPr/>
          </p:nvSpPr>
          <p:spPr>
            <a:xfrm>
              <a:off x="5910120" y="3382920"/>
              <a:ext cx="216000" cy="216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95080" y="3309840"/>
              <a:ext cx="912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ff0000"/>
                  </a:solidFill>
                  <a:latin typeface="Arial"/>
                </a:rPr>
                <a:t>Current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ff0000"/>
                  </a:solidFill>
                  <a:latin typeface="Arial"/>
                </a:rPr>
                <a:t>pract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33280" y="3521160"/>
            <a:ext cx="237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Which too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en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 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395280" y="1647720"/>
          <a:ext cx="8280360" cy="3106800"/>
        </p:xfrm>
        <a:graphic>
          <a:graphicData uri="http://schemas.openxmlformats.org/drawingml/2006/table">
            <a:tbl>
              <a:tblPr/>
              <a:tblGrid>
                <a:gridCol w="2403360"/>
                <a:gridCol w="587700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pecific policy mechanisms includ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sitive incentiv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inancial or regulatory instruments</a:t>
                      </a:r>
                      <a:r>
                        <a:rPr b="0" lang="en-AU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to encourage chang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egative incentiv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inancial or regulatory instruments</a:t>
                      </a:r>
                      <a:r>
                        <a:rPr b="0" lang="en-AU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to inhibit chan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xten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echnology transfer, education, communication, demonstrations, support for community networ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echnology chan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velopment of improved land management options, e.g. through strategic R&amp;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 a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formed ina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324000" y="5516640"/>
            <a:ext cx="864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0" lang="en-A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ncludes polluter-pays mechanisms (command and control, pollution tax, tradable permits, offsets) and beneficiary-pays mechanisms (subsidies, conservation auctions and tenders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Alternative policy mechanisms </a:t>
            </a:r>
            <a:br>
              <a:rPr sz="4400"/>
            </a:br>
            <a:r>
              <a:rPr b="0" lang="en-AU" sz="2400" spc="-1" strike="noStrike">
                <a:solidFill>
                  <a:srgbClr val="97f5ff"/>
                </a:solidFill>
                <a:latin typeface="Arial"/>
              </a:rPr>
              <a:t>for seeking changes on private lands</a:t>
            </a:r>
            <a:endParaRPr b="0" lang="en-US" sz="2400" spc="-1" strike="noStrike">
              <a:solidFill>
                <a:srgbClr val="97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97f5ff"/>
                </a:solidFill>
                <a:latin typeface="Arial"/>
              </a:rPr>
              <a:t>Simple rules</a:t>
            </a:r>
            <a:br>
              <a:rPr sz="4000"/>
            </a:br>
            <a:r>
              <a:rPr b="0" lang="en-AU" sz="2400" spc="-1" strike="noStrike">
                <a:solidFill>
                  <a:srgbClr val="97f5ff"/>
                </a:solidFill>
                <a:latin typeface="Arial"/>
              </a:rPr>
              <a:t>for allocating mechanisms to projects</a:t>
            </a:r>
            <a:endParaRPr b="0" lang="en-US" sz="2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402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1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rebuchet MS"/>
              </a:rPr>
              <a:t>1. No positive incentives for land-use change unless public net benefits of change are positive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441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rebuchet MS"/>
              </a:rPr>
              <a:t>2. No positive incentives if landholders would adopt land-use changes without those incentives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441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rebuchet MS"/>
              </a:rPr>
              <a:t>3. No positive incentives if overall costs outweigh benefits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788000" y="1989000"/>
            <a:ext cx="4356000" cy="37306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148360" y="3762360"/>
            <a:ext cx="3843360" cy="1611360"/>
          </a:xfrm>
          <a:prstGeom prst="rect">
            <a:avLst/>
          </a:prstGeom>
          <a:solidFill>
            <a:srgbClr val="006462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93080" y="2133720"/>
            <a:ext cx="1942920" cy="3240000"/>
          </a:xfrm>
          <a:prstGeom prst="rect">
            <a:avLst/>
          </a:prstGeom>
          <a:solidFill>
            <a:srgbClr val="006462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48360" y="2131920"/>
            <a:ext cx="3911400" cy="3241800"/>
          </a:xfrm>
          <a:prstGeom prst="rtTriangle">
            <a:avLst/>
          </a:prstGeom>
          <a:solidFill>
            <a:srgbClr val="006462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Simple public-private framework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692360" y="941400"/>
            <a:ext cx="59338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How applied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Project Assessment Form collects info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Public net benefits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Asset significance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Threats, Effectiveness of works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Time lags, Risks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Private net benefits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Adoption of the required works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Does not dictate mechanisms: you choose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796680"/>
            <a:ext cx="8207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Benefit: Cost Index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The BCI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18520" y="2341440"/>
            <a:ext cx="721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rebuchet MS"/>
              </a:rPr>
              <a:t>An index of benefits from the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89080" y="3068640"/>
            <a:ext cx="712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15240" y="3141720"/>
            <a:ext cx="644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rebuchet MS"/>
              </a:rPr>
              <a:t>Total costs (project and ongo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68360" y="342900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ff"/>
                </a:solidFill>
                <a:latin typeface="Trebuchet MS"/>
              </a:rPr>
              <a:t>BCI</a:t>
            </a:r>
            <a:r>
              <a:rPr b="0" lang="en-AU" sz="1600" spc="-1" strike="noStrike">
                <a:solidFill>
                  <a:srgbClr val="ffffff"/>
                </a:solidFill>
                <a:latin typeface="Trebuchet MS"/>
              </a:rPr>
              <a:t> = ─────────────────────────────────────────────────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rebuchet MS"/>
              </a:rPr>
              <a:t>                                                              </a:t>
            </a:r>
            <a:r>
              <a:rPr b="0" lang="en-AU" sz="2000" spc="-1" strike="noStrike">
                <a:solidFill>
                  <a:srgbClr val="ffffff"/>
                </a:solidFill>
                <a:latin typeface="Trebuchet MS"/>
              </a:rPr>
              <a:t>Project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24080" y="2560680"/>
            <a:ext cx="1311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rebuchet MS"/>
              </a:rPr>
              <a:t>Potential </a:t>
            </a:r>
            <a:br>
              <a:rPr sz="2000"/>
            </a:br>
            <a:r>
              <a:rPr b="0" lang="en-AU" sz="2000" spc="-1" strike="noStrike">
                <a:solidFill>
                  <a:srgbClr val="ffffff"/>
                </a:solidFill>
                <a:latin typeface="Trebuchet MS"/>
              </a:rPr>
              <a:t>project </a:t>
            </a:r>
            <a:br>
              <a:rPr sz="2000"/>
            </a:br>
            <a:r>
              <a:rPr b="0" lang="en-AU" sz="2000" spc="-1" strike="noStrike">
                <a:solidFill>
                  <a:srgbClr val="ffffff"/>
                </a:solidFill>
                <a:latin typeface="Trebuchet MS"/>
              </a:rPr>
              <a:t>benef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76120" y="2567160"/>
            <a:ext cx="158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rebuchet MS"/>
              </a:rPr>
              <a:t>E(prop’n </a:t>
            </a:r>
            <a:br>
              <a:rPr sz="2000"/>
            </a:br>
            <a:r>
              <a:rPr b="0" lang="en-AU" sz="2000" spc="-1" strike="noStrike">
                <a:solidFill>
                  <a:srgbClr val="ffffff"/>
                </a:solidFill>
                <a:latin typeface="Trebuchet MS"/>
              </a:rPr>
              <a:t>of required </a:t>
            </a:r>
            <a:br>
              <a:rPr sz="2000"/>
            </a:br>
            <a:r>
              <a:rPr b="0" lang="en-AU" sz="2000" spc="-1" strike="noStrike">
                <a:solidFill>
                  <a:srgbClr val="ffffff"/>
                </a:solidFill>
                <a:latin typeface="Trebuchet MS"/>
              </a:rPr>
              <a:t>adop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02160" y="285264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AU" sz="20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0" lang="en-AU" sz="2000" spc="-1" strike="noStrike">
                <a:solidFill>
                  <a:srgbClr val="ffffff"/>
                </a:solidFill>
                <a:latin typeface="Trebuchet MS"/>
              </a:rPr>
              <a:t>(1 </a:t>
            </a:r>
            <a:r>
              <a:rPr b="0" lang="en-AU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AU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28080" y="2709720"/>
            <a:ext cx="103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rebuchet MS"/>
              </a:rPr>
              <a:t>Risk of </a:t>
            </a:r>
            <a:br>
              <a:rPr sz="2000"/>
            </a:br>
            <a:r>
              <a:rPr b="0" lang="en-AU" sz="2000" spc="-1" strike="noStrike">
                <a:solidFill>
                  <a:srgbClr val="ffffff"/>
                </a:solidFill>
                <a:latin typeface="Trebuchet MS"/>
              </a:rPr>
              <a:t>failu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97760" y="285444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38080" y="2854440"/>
            <a:ext cx="25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58480" y="285444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58440" y="2565360"/>
            <a:ext cx="129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rebuchet MS"/>
              </a:rPr>
              <a:t>Discount</a:t>
            </a:r>
            <a:br>
              <a:rPr sz="2000"/>
            </a:br>
            <a:r>
              <a:rPr b="0" lang="en-AU" sz="2000" spc="-1" strike="noStrike">
                <a:solidFill>
                  <a:srgbClr val="ffffff"/>
                </a:solidFill>
                <a:latin typeface="Trebuchet MS"/>
              </a:rPr>
              <a:t>factor for</a:t>
            </a:r>
            <a:br>
              <a:rPr sz="2000"/>
            </a:br>
            <a:r>
              <a:rPr b="0" lang="en-AU" sz="2000" spc="-1" strike="noStrike">
                <a:solidFill>
                  <a:srgbClr val="ffffff"/>
                </a:solidFill>
                <a:latin typeface="Trebuchet MS"/>
              </a:rPr>
              <a:t>time la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89240" y="404640"/>
            <a:ext cx="1706400" cy="2160720"/>
            <a:chOff x="489240" y="404640"/>
            <a:chExt cx="1706400" cy="2160720"/>
          </a:xfrm>
        </p:grpSpPr>
        <p:sp>
          <p:nvSpPr>
            <p:cNvPr id="208" name=""/>
            <p:cNvSpPr/>
            <p:nvPr/>
          </p:nvSpPr>
          <p:spPr>
            <a:xfrm>
              <a:off x="489240" y="404640"/>
              <a:ext cx="17064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2400" spc="-1" strike="noStrike">
                  <a:solidFill>
                    <a:srgbClr val="ffff00"/>
                  </a:solidFill>
                  <a:latin typeface="Trebuchet MS"/>
                </a:rPr>
                <a:t>V</a:t>
              </a:r>
              <a:r>
                <a:rPr b="0" lang="en-AU" sz="2400" spc="-1" strike="noStrike">
                  <a:solidFill>
                    <a:srgbClr val="ffff00"/>
                  </a:solidFill>
                  <a:latin typeface="Trebuchet MS"/>
                </a:rPr>
                <a:t> </a:t>
              </a:r>
              <a:r>
                <a:rPr b="0" lang="en-AU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</a:t>
              </a:r>
              <a:r>
                <a:rPr b="0" lang="en-AU" sz="2400" spc="-1" strike="noStrike">
                  <a:solidFill>
                    <a:srgbClr val="ffff00"/>
                  </a:solidFill>
                  <a:latin typeface="Trebuchet MS"/>
                </a:rPr>
                <a:t> </a:t>
              </a:r>
              <a:r>
                <a:rPr b="0" i="1" lang="en-AU" sz="2400" spc="-1" strike="noStrike">
                  <a:solidFill>
                    <a:srgbClr val="ffff00"/>
                  </a:solidFill>
                  <a:latin typeface="Trebuchet MS"/>
                </a:rPr>
                <a:t>W </a:t>
              </a:r>
              <a:br>
                <a:rPr sz="2400"/>
              </a:br>
              <a:r>
                <a:rPr b="0" i="1" lang="en-AU" sz="1600" spc="-1" strike="noStrike">
                  <a:solidFill>
                    <a:srgbClr val="ffff00"/>
                  </a:solidFill>
                  <a:latin typeface="Trebuchet MS"/>
                </a:rPr>
                <a:t>V</a:t>
              </a:r>
              <a:r>
                <a:rPr b="0" lang="en-AU" sz="1600" spc="-1" strike="noStrike">
                  <a:solidFill>
                    <a:srgbClr val="ffff00"/>
                  </a:solidFill>
                  <a:latin typeface="Trebuchet MS"/>
                </a:rPr>
                <a:t>: asset valu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600" spc="-1" strike="noStrike">
                  <a:solidFill>
                    <a:srgbClr val="ffff00"/>
                  </a:solidFill>
                  <a:latin typeface="Trebuchet MS"/>
                </a:rPr>
                <a:t>W</a:t>
              </a:r>
              <a:r>
                <a:rPr b="0" lang="en-AU" sz="1600" spc="-1" strike="noStrike">
                  <a:solidFill>
                    <a:srgbClr val="ffff00"/>
                  </a:solidFill>
                  <a:latin typeface="Trebuchet MS"/>
                </a:rPr>
                <a:t>: effectiveness</a:t>
              </a:r>
              <a:br>
                <a:rPr sz="1600"/>
              </a:br>
              <a:r>
                <a:rPr b="0" lang="en-AU" sz="1600" spc="-1" strike="noStrike">
                  <a:solidFill>
                    <a:srgbClr val="ffff00"/>
                  </a:solidFill>
                  <a:latin typeface="Trebuchet MS"/>
                </a:rPr>
                <a:t>of work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76360" y="1700280"/>
              <a:ext cx="287280" cy="865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676240" y="404640"/>
            <a:ext cx="1499040" cy="2160720"/>
            <a:chOff x="2676240" y="404640"/>
            <a:chExt cx="1499040" cy="2160720"/>
          </a:xfrm>
        </p:grpSpPr>
        <p:sp>
          <p:nvSpPr>
            <p:cNvPr id="211" name=""/>
            <p:cNvSpPr/>
            <p:nvPr/>
          </p:nvSpPr>
          <p:spPr>
            <a:xfrm>
              <a:off x="2676240" y="404640"/>
              <a:ext cx="1499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2400" spc="-1" strike="noStrike">
                  <a:solidFill>
                    <a:srgbClr val="ffff00"/>
                  </a:solidFill>
                  <a:latin typeface="Trebuchet MS"/>
                </a:rPr>
                <a:t>A</a:t>
              </a:r>
              <a:r>
                <a:rPr b="0" lang="en-AU" sz="2400" spc="-1" strike="noStrike">
                  <a:solidFill>
                    <a:srgbClr val="ffff00"/>
                  </a:solidFill>
                  <a:latin typeface="Trebuchet MS"/>
                </a:rPr>
                <a:t> </a:t>
              </a:r>
              <a:r>
                <a:rPr b="0" lang="en-AU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</a:t>
              </a:r>
              <a:r>
                <a:rPr b="0" lang="en-AU" sz="2400" spc="-1" strike="noStrike">
                  <a:solidFill>
                    <a:srgbClr val="ffff00"/>
                  </a:solidFill>
                  <a:latin typeface="Trebuchet MS"/>
                </a:rPr>
                <a:t> </a:t>
              </a:r>
              <a:r>
                <a:rPr b="0" i="1" lang="en-AU" sz="2400" spc="-1" strike="noStrike">
                  <a:solidFill>
                    <a:srgbClr val="ffff00"/>
                  </a:solidFill>
                  <a:latin typeface="Trebuchet MS"/>
                </a:rPr>
                <a:t>B </a:t>
              </a:r>
              <a:br>
                <a:rPr sz="2400"/>
              </a:br>
              <a:r>
                <a:rPr b="0" i="1" lang="en-AU" sz="1600" spc="-1" strike="noStrike">
                  <a:solidFill>
                    <a:srgbClr val="ffff00"/>
                  </a:solidFill>
                  <a:latin typeface="Trebuchet MS"/>
                </a:rPr>
                <a:t>A</a:t>
              </a:r>
              <a:r>
                <a:rPr b="0" lang="en-AU" sz="1600" spc="-1" strike="noStrike">
                  <a:solidFill>
                    <a:srgbClr val="ffff00"/>
                  </a:solidFill>
                  <a:latin typeface="Trebuchet MS"/>
                </a:rPr>
                <a:t>: adoption</a:t>
              </a:r>
              <a:br>
                <a:rPr sz="1600"/>
              </a:br>
              <a:r>
                <a:rPr b="0" i="1" lang="en-AU" sz="1600" spc="-1" strike="noStrike">
                  <a:solidFill>
                    <a:srgbClr val="ffff00"/>
                  </a:solidFill>
                  <a:latin typeface="Trebuchet MS"/>
                </a:rPr>
                <a:t>B</a:t>
              </a:r>
              <a:r>
                <a:rPr b="0" lang="en-AU" sz="1600" spc="-1" strike="noStrike">
                  <a:solidFill>
                    <a:srgbClr val="ffff00"/>
                  </a:solidFill>
                  <a:latin typeface="Trebuchet MS"/>
                </a:rPr>
                <a:t>: complian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92360" y="1484280"/>
              <a:ext cx="142920" cy="108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4346280" y="404640"/>
            <a:ext cx="2175480" cy="2303640"/>
            <a:chOff x="4346280" y="404640"/>
            <a:chExt cx="2175480" cy="2303640"/>
          </a:xfrm>
        </p:grpSpPr>
        <p:sp>
          <p:nvSpPr>
            <p:cNvPr id="214" name=""/>
            <p:cNvSpPr/>
            <p:nvPr/>
          </p:nvSpPr>
          <p:spPr>
            <a:xfrm>
              <a:off x="4346280" y="404640"/>
              <a:ext cx="21754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2400" spc="-1" strike="noStrike">
                  <a:solidFill>
                    <a:srgbClr val="ffff00"/>
                  </a:solidFill>
                  <a:latin typeface="Trebuchet MS"/>
                </a:rPr>
                <a:t>F</a:t>
              </a:r>
              <a:r>
                <a:rPr b="0" lang="en-AU" sz="2400" spc="-1" strike="noStrike">
                  <a:solidFill>
                    <a:srgbClr val="ffff00"/>
                  </a:solidFill>
                  <a:latin typeface="Trebuchet MS"/>
                </a:rPr>
                <a:t> </a:t>
              </a:r>
              <a:r>
                <a:rPr b="0" lang="en-AU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</a:t>
              </a:r>
              <a:r>
                <a:rPr b="0" lang="en-AU" sz="2400" spc="-1" strike="noStrike">
                  <a:solidFill>
                    <a:srgbClr val="ffff00"/>
                  </a:solidFill>
                  <a:latin typeface="Trebuchet MS"/>
                </a:rPr>
                <a:t> </a:t>
              </a:r>
              <a:r>
                <a:rPr b="0" i="1" lang="en-AU" sz="2400" spc="-1" strike="noStrike">
                  <a:solidFill>
                    <a:srgbClr val="ffff00"/>
                  </a:solidFill>
                  <a:latin typeface="Trebuchet MS"/>
                </a:rPr>
                <a:t>P </a:t>
              </a:r>
              <a:r>
                <a:rPr b="0" i="1" lang="en-AU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</a:t>
              </a:r>
              <a:r>
                <a:rPr b="0" i="1" lang="en-AU" sz="2400" spc="-1" strike="noStrike">
                  <a:solidFill>
                    <a:srgbClr val="ffff00"/>
                  </a:solidFill>
                  <a:latin typeface="Trebuchet MS"/>
                </a:rPr>
                <a:t> G</a:t>
              </a:r>
              <a:br>
                <a:rPr sz="2400"/>
              </a:br>
              <a:r>
                <a:rPr b="0" i="1" lang="en-AU" sz="1600" spc="-1" strike="noStrike">
                  <a:solidFill>
                    <a:srgbClr val="ffff00"/>
                  </a:solidFill>
                  <a:latin typeface="Trebuchet MS"/>
                </a:rPr>
                <a:t>F</a:t>
              </a:r>
              <a:r>
                <a:rPr b="0" lang="en-AU" sz="1600" spc="-1" strike="noStrike">
                  <a:solidFill>
                    <a:srgbClr val="ffff00"/>
                  </a:solidFill>
                  <a:latin typeface="Trebuchet MS"/>
                </a:rPr>
                <a:t>: feasibility</a:t>
              </a:r>
              <a:br>
                <a:rPr sz="1600"/>
              </a:br>
              <a:r>
                <a:rPr b="0" i="1" lang="en-AU" sz="1600" spc="-1" strike="noStrike">
                  <a:solidFill>
                    <a:srgbClr val="ffff00"/>
                  </a:solidFill>
                  <a:latin typeface="Trebuchet MS"/>
                </a:rPr>
                <a:t>P</a:t>
              </a:r>
              <a:r>
                <a:rPr b="0" lang="en-AU" sz="1600" spc="-1" strike="noStrike">
                  <a:solidFill>
                    <a:srgbClr val="ffff00"/>
                  </a:solidFill>
                  <a:latin typeface="Trebuchet MS"/>
                </a:rPr>
                <a:t>: socio-politic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600" spc="-1" strike="noStrike">
                  <a:solidFill>
                    <a:srgbClr val="ffff00"/>
                  </a:solidFill>
                  <a:latin typeface="Trebuchet MS"/>
                </a:rPr>
                <a:t>G</a:t>
              </a:r>
              <a:r>
                <a:rPr b="0" lang="en-AU" sz="1600" spc="-1" strike="noStrike">
                  <a:solidFill>
                    <a:srgbClr val="ffff00"/>
                  </a:solidFill>
                  <a:latin typeface="Trebuchet MS"/>
                </a:rPr>
                <a:t>: long-term fundi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80000" y="1700280"/>
              <a:ext cx="0" cy="1008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516000" y="404640"/>
            <a:ext cx="2232000" cy="2084400"/>
            <a:chOff x="6516000" y="404640"/>
            <a:chExt cx="2232000" cy="2084400"/>
          </a:xfrm>
        </p:grpSpPr>
        <p:sp>
          <p:nvSpPr>
            <p:cNvPr id="217" name=""/>
            <p:cNvSpPr/>
            <p:nvPr/>
          </p:nvSpPr>
          <p:spPr>
            <a:xfrm>
              <a:off x="6516000" y="404640"/>
              <a:ext cx="22320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ffff00"/>
                  </a:solidFill>
                  <a:latin typeface="Trebuchet MS"/>
                </a:rPr>
                <a:t>1/(1 + </a:t>
              </a:r>
              <a:r>
                <a:rPr b="0" i="1" lang="en-AU" sz="2400" spc="-1" strike="noStrike">
                  <a:solidFill>
                    <a:srgbClr val="ffff00"/>
                  </a:solidFill>
                  <a:latin typeface="Trebuchet MS"/>
                </a:rPr>
                <a:t>r</a:t>
              </a:r>
              <a:r>
                <a:rPr b="0" lang="en-AU" sz="2400" spc="-1" strike="noStrike">
                  <a:solidFill>
                    <a:srgbClr val="ffff00"/>
                  </a:solidFill>
                  <a:latin typeface="Trebuchet MS"/>
                </a:rPr>
                <a:t>)</a:t>
              </a:r>
              <a:r>
                <a:rPr b="0" i="1" lang="en-AU" sz="2400" spc="-1" strike="noStrike" baseline="30000">
                  <a:solidFill>
                    <a:srgbClr val="ffff00"/>
                  </a:solidFill>
                  <a:latin typeface="Trebuchet MS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600" spc="-1" strike="noStrike">
                  <a:solidFill>
                    <a:srgbClr val="ffff00"/>
                  </a:solidFill>
                  <a:latin typeface="Trebuchet MS"/>
                </a:rPr>
                <a:t>L</a:t>
              </a:r>
              <a:r>
                <a:rPr b="0" lang="en-AU" sz="1600" spc="-1" strike="noStrike">
                  <a:solidFill>
                    <a:srgbClr val="ffff00"/>
                  </a:solidFill>
                  <a:latin typeface="Trebuchet MS"/>
                </a:rPr>
                <a:t>: time lag to benefi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600" spc="-1" strike="noStrike">
                  <a:solidFill>
                    <a:srgbClr val="ffff00"/>
                  </a:solidFill>
                  <a:latin typeface="Trebuchet MS"/>
                </a:rPr>
                <a:t>r</a:t>
              </a:r>
              <a:r>
                <a:rPr b="0" lang="en-AU" sz="1600" spc="-1" strike="noStrike">
                  <a:solidFill>
                    <a:srgbClr val="ffff00"/>
                  </a:solidFill>
                  <a:latin typeface="Trebuchet MS"/>
                </a:rPr>
                <a:t>: discount ra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7449840" y="1338120"/>
              <a:ext cx="73080" cy="1150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1920" y="4220640"/>
            <a:ext cx="4050000" cy="1766520"/>
            <a:chOff x="3121920" y="4220640"/>
            <a:chExt cx="4050000" cy="1766520"/>
          </a:xfrm>
        </p:grpSpPr>
        <p:sp>
          <p:nvSpPr>
            <p:cNvPr id="220" name=""/>
            <p:cNvSpPr/>
            <p:nvPr/>
          </p:nvSpPr>
          <p:spPr>
            <a:xfrm>
              <a:off x="3121920" y="4797360"/>
              <a:ext cx="40500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2400" spc="-1" strike="noStrike">
                  <a:solidFill>
                    <a:srgbClr val="ffff00"/>
                  </a:solidFill>
                  <a:latin typeface="Trebuchet MS"/>
                </a:rPr>
                <a:t>C</a:t>
              </a:r>
              <a:r>
                <a:rPr b="0" lang="en-AU" sz="2400" spc="-1" strike="noStrike">
                  <a:solidFill>
                    <a:srgbClr val="ffff00"/>
                  </a:solidFill>
                  <a:latin typeface="Trebuchet MS"/>
                </a:rPr>
                <a:t> + PV(</a:t>
              </a:r>
              <a:r>
                <a:rPr b="0" i="1" lang="en-AU" sz="2400" spc="-1" strike="noStrike">
                  <a:solidFill>
                    <a:srgbClr val="ffff00"/>
                  </a:solidFill>
                  <a:latin typeface="Trebuchet MS"/>
                </a:rPr>
                <a:t>M</a:t>
              </a:r>
              <a:r>
                <a:rPr b="0" lang="en-AU" sz="2400" spc="-1" strike="noStrike">
                  <a:solidFill>
                    <a:srgbClr val="ffff00"/>
                  </a:solidFill>
                  <a:latin typeface="Trebuchet MS"/>
                </a:rPr>
                <a:t>)</a:t>
              </a:r>
              <a:r>
                <a:rPr b="0" i="1" lang="en-AU" sz="2400" spc="-1" strike="noStrike">
                  <a:solidFill>
                    <a:srgbClr val="ffff00"/>
                  </a:solidFill>
                  <a:latin typeface="Trebuchet MS"/>
                </a:rPr>
                <a:t> </a:t>
              </a:r>
              <a:br>
                <a:rPr sz="2400"/>
              </a:br>
              <a:r>
                <a:rPr b="0" i="1" lang="en-AU" sz="1600" spc="-1" strike="noStrike">
                  <a:solidFill>
                    <a:srgbClr val="ffff00"/>
                  </a:solidFill>
                  <a:latin typeface="Trebuchet MS"/>
                </a:rPr>
                <a:t>C</a:t>
              </a:r>
              <a:r>
                <a:rPr b="0" lang="en-AU" sz="1600" spc="-1" strike="noStrike">
                  <a:solidFill>
                    <a:srgbClr val="ffff00"/>
                  </a:solidFill>
                  <a:latin typeface="Trebuchet MS"/>
                </a:rPr>
                <a:t>: project cos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600" spc="-1" strike="noStrike">
                  <a:solidFill>
                    <a:srgbClr val="ffff00"/>
                  </a:solidFill>
                  <a:latin typeface="Trebuchet MS"/>
                </a:rPr>
                <a:t>M</a:t>
              </a:r>
              <a:r>
                <a:rPr b="0" lang="en-AU" sz="1600" spc="-1" strike="noStrike">
                  <a:solidFill>
                    <a:srgbClr val="ffff00"/>
                  </a:solidFill>
                  <a:latin typeface="Trebuchet MS"/>
                </a:rPr>
                <a:t>: annual maintenance cos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ffff00"/>
                  </a:solidFill>
                  <a:latin typeface="Trebuchet MS"/>
                </a:rPr>
                <a:t>PV: summed present value over 20 year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5076720" y="4220640"/>
              <a:ext cx="0" cy="576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Flexible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Can compare large and small projects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Can compare short and long projects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Allows comparison of projects for different types of assets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Waterways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Wetlands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Vegetation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Threatened species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Agricultural land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What does INFFER help with?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How to get value for money from NRM budget?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What is realistic/feasible?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Appropriate delivery mechanisms?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Project design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Give confidence to funders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Example BCI ranking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95280" y="1268280"/>
          <a:ext cx="8280360" cy="3529080"/>
        </p:xfrm>
        <a:graphic>
          <a:graphicData uri="http://schemas.openxmlformats.org/drawingml/2006/table">
            <a:tbl>
              <a:tblPr/>
              <a:tblGrid>
                <a:gridCol w="2759040"/>
                <a:gridCol w="2760840"/>
                <a:gridCol w="2760480"/>
              </a:tblGrid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ject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7f5ff"/>
                      </a:solidFill>
                    </a:lnL>
                    <a:lnR w="13680">
                      <a:solidFill>
                        <a:srgbClr val="97f5ff"/>
                      </a:solidFill>
                    </a:lnR>
                    <a:lnT w="13680">
                      <a:solidFill>
                        <a:srgbClr val="97f5ff"/>
                      </a:solidFill>
                    </a:lnT>
                    <a:lnB w="13680">
                      <a:solidFill>
                        <a:srgbClr val="97f5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enefit: Cost Index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7f5ff"/>
                      </a:solidFill>
                    </a:lnL>
                    <a:lnR w="13680">
                      <a:solidFill>
                        <a:srgbClr val="97f5ff"/>
                      </a:solidFill>
                    </a:lnR>
                    <a:lnT w="13680">
                      <a:solidFill>
                        <a:srgbClr val="97f5ff"/>
                      </a:solidFill>
                    </a:lnT>
                    <a:lnB w="13680">
                      <a:solidFill>
                        <a:srgbClr val="97f5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udget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7f5ff"/>
                      </a:solidFill>
                    </a:lnL>
                    <a:lnR w="13680">
                      <a:solidFill>
                        <a:srgbClr val="97f5ff"/>
                      </a:solidFill>
                    </a:lnR>
                    <a:lnT w="13680">
                      <a:solidFill>
                        <a:srgbClr val="97f5ff"/>
                      </a:solidFill>
                    </a:lnT>
                    <a:lnB w="13680">
                      <a:solidFill>
                        <a:srgbClr val="97f5ff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7f5ff"/>
                      </a:solidFill>
                    </a:lnL>
                    <a:lnR w="13680">
                      <a:solidFill>
                        <a:srgbClr val="97f5ff"/>
                      </a:solidFill>
                    </a:lnR>
                    <a:lnT w="13680">
                      <a:solidFill>
                        <a:srgbClr val="97f5ff"/>
                      </a:solidFill>
                    </a:lnT>
                    <a:lnB w="13680">
                      <a:solidFill>
                        <a:srgbClr val="97f5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.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7f5ff"/>
                      </a:solidFill>
                    </a:lnL>
                    <a:lnR w="13680">
                      <a:solidFill>
                        <a:srgbClr val="97f5ff"/>
                      </a:solidFill>
                    </a:lnR>
                    <a:lnT w="13680">
                      <a:solidFill>
                        <a:srgbClr val="97f5ff"/>
                      </a:solidFill>
                    </a:lnT>
                    <a:lnB w="13680">
                      <a:solidFill>
                        <a:srgbClr val="97f5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$3m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7f5ff"/>
                      </a:solidFill>
                    </a:lnL>
                    <a:lnR w="13680">
                      <a:solidFill>
                        <a:srgbClr val="97f5ff"/>
                      </a:solidFill>
                    </a:lnR>
                    <a:lnT w="13680">
                      <a:solidFill>
                        <a:srgbClr val="97f5ff"/>
                      </a:solidFill>
                    </a:lnT>
                    <a:lnB w="13680">
                      <a:solidFill>
                        <a:srgbClr val="97f5ff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7f5ff"/>
                      </a:solidFill>
                    </a:lnL>
                    <a:lnR w="13680">
                      <a:solidFill>
                        <a:srgbClr val="97f5ff"/>
                      </a:solidFill>
                    </a:lnR>
                    <a:lnT w="13680">
                      <a:solidFill>
                        <a:srgbClr val="97f5ff"/>
                      </a:solidFill>
                    </a:lnT>
                    <a:lnB w="13680">
                      <a:solidFill>
                        <a:srgbClr val="97f5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.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7f5ff"/>
                      </a:solidFill>
                    </a:lnL>
                    <a:lnR w="13680">
                      <a:solidFill>
                        <a:srgbClr val="97f5ff"/>
                      </a:solidFill>
                    </a:lnR>
                    <a:lnT w="13680">
                      <a:solidFill>
                        <a:srgbClr val="97f5ff"/>
                      </a:solidFill>
                    </a:lnT>
                    <a:lnB w="13680">
                      <a:solidFill>
                        <a:srgbClr val="97f5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$13m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7f5ff"/>
                      </a:solidFill>
                    </a:lnL>
                    <a:lnR w="13680">
                      <a:solidFill>
                        <a:srgbClr val="97f5ff"/>
                      </a:solidFill>
                    </a:lnR>
                    <a:lnT w="13680">
                      <a:solidFill>
                        <a:srgbClr val="97f5ff"/>
                      </a:solidFill>
                    </a:lnT>
                    <a:lnB w="13680">
                      <a:solidFill>
                        <a:srgbClr val="97f5ff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7f5ff"/>
                      </a:solidFill>
                    </a:lnL>
                    <a:lnR w="13680">
                      <a:solidFill>
                        <a:srgbClr val="97f5ff"/>
                      </a:solidFill>
                    </a:lnR>
                    <a:lnT w="13680">
                      <a:solidFill>
                        <a:srgbClr val="97f5ff"/>
                      </a:solidFill>
                    </a:lnT>
                    <a:lnB w="13680">
                      <a:solidFill>
                        <a:srgbClr val="97f5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.2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7f5ff"/>
                      </a:solidFill>
                    </a:lnL>
                    <a:lnR w="13680">
                      <a:solidFill>
                        <a:srgbClr val="97f5ff"/>
                      </a:solidFill>
                    </a:lnR>
                    <a:lnT w="13680">
                      <a:solidFill>
                        <a:srgbClr val="97f5ff"/>
                      </a:solidFill>
                    </a:lnT>
                    <a:lnB w="13680">
                      <a:solidFill>
                        <a:srgbClr val="97f5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$1m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7f5ff"/>
                      </a:solidFill>
                    </a:lnL>
                    <a:lnR w="13680">
                      <a:solidFill>
                        <a:srgbClr val="97f5ff"/>
                      </a:solidFill>
                    </a:lnR>
                    <a:lnT w="13680">
                      <a:solidFill>
                        <a:srgbClr val="97f5ff"/>
                      </a:solidFill>
                    </a:lnT>
                    <a:lnB w="13680">
                      <a:solidFill>
                        <a:srgbClr val="97f5ff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7f5ff"/>
                      </a:solidFill>
                    </a:lnL>
                    <a:lnR w="13680">
                      <a:solidFill>
                        <a:srgbClr val="97f5ff"/>
                      </a:solidFill>
                    </a:lnR>
                    <a:lnT w="13680">
                      <a:solidFill>
                        <a:srgbClr val="97f5ff"/>
                      </a:solidFill>
                    </a:lnT>
                    <a:lnB w="13680">
                      <a:solidFill>
                        <a:srgbClr val="97f5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.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7f5ff"/>
                      </a:solidFill>
                    </a:lnL>
                    <a:lnR w="13680">
                      <a:solidFill>
                        <a:srgbClr val="97f5ff"/>
                      </a:solidFill>
                    </a:lnR>
                    <a:lnT w="13680">
                      <a:solidFill>
                        <a:srgbClr val="97f5ff"/>
                      </a:solidFill>
                    </a:lnT>
                    <a:lnB w="13680">
                      <a:solidFill>
                        <a:srgbClr val="97f5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$0.5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7f5ff"/>
                      </a:solidFill>
                    </a:lnL>
                    <a:lnR w="13680">
                      <a:solidFill>
                        <a:srgbClr val="97f5ff"/>
                      </a:solidFill>
                    </a:lnR>
                    <a:lnT w="13680">
                      <a:solidFill>
                        <a:srgbClr val="97f5ff"/>
                      </a:solidFill>
                    </a:lnT>
                    <a:lnB w="13680">
                      <a:solidFill>
                        <a:srgbClr val="97f5ff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7f5ff"/>
                      </a:solidFill>
                    </a:lnL>
                    <a:lnR w="13680">
                      <a:solidFill>
                        <a:srgbClr val="97f5ff"/>
                      </a:solidFill>
                    </a:lnR>
                    <a:lnT w="13680">
                      <a:solidFill>
                        <a:srgbClr val="97f5ff"/>
                      </a:solidFill>
                    </a:lnT>
                    <a:lnB w="13680">
                      <a:solidFill>
                        <a:srgbClr val="97f5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7f5ff"/>
                      </a:solidFill>
                    </a:lnL>
                    <a:lnR w="13680">
                      <a:solidFill>
                        <a:srgbClr val="97f5ff"/>
                      </a:solidFill>
                    </a:lnR>
                    <a:lnT w="13680">
                      <a:solidFill>
                        <a:srgbClr val="97f5ff"/>
                      </a:solidFill>
                    </a:lnT>
                    <a:lnB w="13680">
                      <a:solidFill>
                        <a:srgbClr val="97f5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$1m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7f5ff"/>
                      </a:solidFill>
                    </a:lnL>
                    <a:lnR w="13680">
                      <a:solidFill>
                        <a:srgbClr val="97f5ff"/>
                      </a:solidFill>
                    </a:lnR>
                    <a:lnT w="13680">
                      <a:solidFill>
                        <a:srgbClr val="97f5ff"/>
                      </a:solidFill>
                    </a:lnT>
                    <a:lnB w="13680">
                      <a:solidFill>
                        <a:srgbClr val="97f5ff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7f5ff"/>
                      </a:solidFill>
                    </a:lnL>
                    <a:lnR w="13680">
                      <a:solidFill>
                        <a:srgbClr val="97f5ff"/>
                      </a:solidFill>
                    </a:lnR>
                    <a:lnT w="13680">
                      <a:solidFill>
                        <a:srgbClr val="97f5ff"/>
                      </a:solidFill>
                    </a:lnT>
                    <a:lnB w="13680">
                      <a:solidFill>
                        <a:srgbClr val="97f5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8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7f5ff"/>
                      </a:solidFill>
                    </a:lnL>
                    <a:lnR w="13680">
                      <a:solidFill>
                        <a:srgbClr val="97f5ff"/>
                      </a:solidFill>
                    </a:lnR>
                    <a:lnT w="13680">
                      <a:solidFill>
                        <a:srgbClr val="97f5ff"/>
                      </a:solidFill>
                    </a:lnT>
                    <a:lnB w="13680">
                      <a:solidFill>
                        <a:srgbClr val="97f5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$9m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7f5ff"/>
                      </a:solidFill>
                    </a:lnL>
                    <a:lnR w="13680">
                      <a:solidFill>
                        <a:srgbClr val="97f5ff"/>
                      </a:solidFill>
                    </a:lnR>
                    <a:lnT w="13680">
                      <a:solidFill>
                        <a:srgbClr val="97f5ff"/>
                      </a:solidFill>
                    </a:lnT>
                    <a:lnB w="13680">
                      <a:solidFill>
                        <a:srgbClr val="97f5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0" y="447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5367240"/>
            <a:ext cx="81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If budget = $17m, preferred projects are 4, 2 &amp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Advantages of the BCI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Avoids common problems in metrics used for ranking environmental projects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Add when they should multiply variables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Fail to divide by project costs (e.g. subtract costs, or just leave it out!)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Omit key variables (common to ignore adoption and technical feasibility)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All three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Cost of poor metrics is huge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Benefits of investment roughly halved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BCI can easily double environmental benefits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90792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Interpretation and use of results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Project assessment report 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Title, summary, etc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Benefit: Cost Index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Time lag until benefits delivered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Risks of project failure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Spin-offs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Quality of information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Key knowledge gaps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Principles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The info is an input to decision making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BCI is not to be used mechanistically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All-things-considered judgemen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Other things may matter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Need a process of QA to give the decision makers confidence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627280" y="3141720"/>
            <a:ext cx="3995640" cy="26589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2120" y="90792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For many environmental managers it’s a very different way to do business 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Having to provide comprehensive info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Particular concepts new to people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Ideally, need an asset expert with comprehensive knowledge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Typical problems for new people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rebuchet MS"/>
              </a:rPr>
              <a:t>Difficulties with “asset” and goa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rebuchet MS"/>
              </a:rPr>
              <a:t>Poor link between threat and works/action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rebuchet MS"/>
              </a:rPr>
              <a:t>Required land-use changes not quantified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rebuchet MS"/>
              </a:rPr>
              <a:t>Tend to stick with comfort zon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rebuchet MS"/>
              </a:rPr>
              <a:t>Unrealistic expectations of adoption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rebuchet MS"/>
              </a:rPr>
              <a:t>Not adequately costed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rebuchet MS"/>
              </a:rPr>
              <a:t>Insufficient detail to judge the projec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Requirements to get through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Training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One-to-one suppor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INFFER team offers training and one-to-one support 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Getting to resource limits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Vic govt planning to provide a training/support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Clear signals from government that there will be benefits to those managers who do it wel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1912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f5ff"/>
                </a:solidFill>
                <a:latin typeface="Arial"/>
              </a:rPr>
              <a:t>Project Examples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General emphases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rebuchet MS"/>
              </a:rPr>
              <a:t>Natural asset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rebuchet MS"/>
              </a:rPr>
              <a:t>Outcome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rebuchet MS"/>
              </a:rPr>
              <a:t>Value for money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rebuchet MS"/>
              </a:rPr>
              <a:t>Multiple threat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rebuchet MS"/>
              </a:rPr>
              <a:t>Multiple asset type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rebuchet MS"/>
              </a:rPr>
              <a:t>Technical &amp; socio-economic (equal emphasis)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rebuchet MS"/>
              </a:rPr>
              <a:t>Policy tools/delivery mechanism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rebuchet MS"/>
              </a:rPr>
              <a:t>Transparency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6100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 u="sng">
                <a:solidFill>
                  <a:srgbClr val="97f5ff"/>
                </a:solidFill>
                <a:uFillTx/>
                <a:latin typeface="Arial"/>
              </a:rPr>
              <a:t>Example</a:t>
            </a:r>
            <a:br>
              <a:rPr sz="4400"/>
            </a:br>
            <a:br>
              <a:rPr sz="4400"/>
            </a:b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Upper Lachlan River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268880" y="0"/>
            <a:ext cx="487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Upper Lachlan River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rebuchet MS"/>
              </a:rPr>
              <a:t>Goal – improve condition and connectivity, protect fish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rebuchet MS"/>
              </a:rPr>
              <a:t>Threats – loss of habitat (riparian and in stream), sediments –nutrients, sand slug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rebuchet MS"/>
              </a:rPr>
              <a:t>Management – fencing, grazing exclusion, habitat restoration, sediment slug control, gully control, groundcover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rebuchet MS"/>
              </a:rPr>
              <a:t>Moderate impact on threat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Upper Lachlan River (cont’d)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Adoption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Little/none without incentives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Standard CMA cost sharing ~50% adoption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Achievable for some elements, unlikely for larger management changes (gully, groundcover)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Overall cost around $3 million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BCI 3.6 (pretty good)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6192720" y="3676680"/>
          <a:ext cx="2843280" cy="22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720" y="3676680"/>
                    <a:ext cx="2843280" cy="22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f5ff"/>
                </a:solidFill>
                <a:latin typeface="Arial"/>
              </a:rPr>
              <a:t>Lachlan Ranges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91200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Lachlan Ranges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High value, but not a ‘jewel’?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Goal – high conservation vegetation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Maintain extent and condition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Threats – weeds, invasive native species, ag impacts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Reduce threat from high to medium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Management – grazing management, direct weed/pest control, reveg 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Lachlan Ranges (cont)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Adoption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Little/none without incentives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Standard CMA cost sharing anticipates &gt;50% adoption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Analysis recommended </a:t>
            </a:r>
            <a:br>
              <a:rPr sz="2400"/>
            </a:b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stewardship payments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f5ff"/>
                </a:solidFill>
                <a:latin typeface="Arial"/>
              </a:rPr>
              <a:t>7 landholders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Overall cost $1.81 million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BCI 4.65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580000" y="3213000"/>
          <a:ext cx="3419640" cy="27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3213000"/>
                    <a:ext cx="3419640" cy="27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f5ff"/>
                </a:solidFill>
                <a:latin typeface="Arial"/>
              </a:rPr>
              <a:t>Patho Plains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46600" y="11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59040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Patho Plains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Very high value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f5ff"/>
                </a:solidFill>
                <a:latin typeface="Arial"/>
              </a:rPr>
              <a:t>Small remnants dispersed over large area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Goal – high conservation vegetation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Maintain extent and condition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Threats – weeds, over grazing, cultivation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Reduce threat from high to medium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Management – grazing management, direct weed contro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Patho Plains (cont)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Adoption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Little/none without incentives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Current MBI payments </a:t>
            </a:r>
            <a:r>
              <a:rPr b="1" lang="en-AU" sz="2400" spc="-1" strike="noStrike">
                <a:solidFill>
                  <a:srgbClr val="97f5ff"/>
                </a:solidFill>
                <a:latin typeface="Symbol"/>
                <a:ea typeface="Symbol"/>
              </a:rPr>
              <a:t></a:t>
            </a: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 25-50% adoption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f5ff"/>
                </a:solidFill>
                <a:latin typeface="Arial"/>
              </a:rPr>
              <a:t>100+ landholders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Overall cost $5 million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BCI 1.75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5076720" y="3141720"/>
            <a:ext cx="3168720" cy="29415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6156360" y="3357720"/>
            <a:ext cx="431640" cy="41112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Affiliations of the INFFER team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97f5ff"/>
                </a:solidFill>
                <a:latin typeface="Arial"/>
              </a:rPr>
              <a:t>University of Western Australia</a:t>
            </a:r>
            <a:endParaRPr b="1" lang="en-US" sz="20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97f5ff"/>
                </a:solidFill>
                <a:latin typeface="Arial"/>
              </a:rPr>
              <a:t>Department of Primary Industries, Victoria</a:t>
            </a:r>
            <a:endParaRPr b="1" lang="en-US" sz="20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97f5ff"/>
                </a:solidFill>
                <a:latin typeface="Arial"/>
              </a:rPr>
              <a:t>North Central Catchment Management Authority</a:t>
            </a:r>
            <a:endParaRPr b="1" lang="en-US" sz="20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97f5ff"/>
                </a:solidFill>
                <a:latin typeface="Arial"/>
              </a:rPr>
              <a:t>Future Farm Industries CRC</a:t>
            </a:r>
            <a:endParaRPr b="1" lang="en-US" sz="2000" spc="-1" strike="noStrike">
              <a:solidFill>
                <a:srgbClr val="97f5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Other key funders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97f5ff"/>
                </a:solidFill>
                <a:latin typeface="Arial"/>
              </a:rPr>
              <a:t>Australian Research Council (Federation Fellow Program)</a:t>
            </a:r>
            <a:endParaRPr b="1" lang="en-US" sz="20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97f5ff"/>
                </a:solidFill>
                <a:latin typeface="Arial"/>
              </a:rPr>
              <a:t>Department of the Environment, Water, Heritage and the Arts (CERF Program)</a:t>
            </a:r>
            <a:endParaRPr b="1" lang="en-US" sz="20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97f5ff"/>
                </a:solidFill>
                <a:latin typeface="Arial"/>
              </a:rPr>
              <a:t>Department of Sustainability and Environment , Victoria</a:t>
            </a:r>
            <a:endParaRPr b="1" lang="en-US" sz="20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5629320"/>
            <a:ext cx="9144000" cy="12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08000" y="5805360"/>
            <a:ext cx="1224000" cy="9399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1488960" y="5908680"/>
            <a:ext cx="1008000" cy="7272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5072040" y="5715000"/>
            <a:ext cx="853920" cy="10796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6084720" y="5742000"/>
            <a:ext cx="3024360" cy="10285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5"/>
          <a:stretch/>
        </p:blipFill>
        <p:spPr>
          <a:xfrm>
            <a:off x="2556000" y="5950080"/>
            <a:ext cx="239688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f5ff"/>
                </a:solidFill>
                <a:latin typeface="Arial"/>
              </a:rPr>
              <a:t>Regional testing and use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384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outh West (WA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24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von (WA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24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outh Coast (WA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24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Northern Agric (WA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24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angelands (WA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24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erth (WA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24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Lachlan (NSW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24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entral West (NSW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24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Border Rivers/Gwydir (NSW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980640"/>
            <a:ext cx="40384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Northern Rivers (NSW)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Namoi (NSW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North East (Vic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North Central (Vic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orangamite (Vic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West Gippsland  (Vic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East Gippsland (Vic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Goulburn Broken (Vic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ort Phillip &amp; Westernport (Vic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780000" y="4656240"/>
            <a:ext cx="2685960" cy="590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559560" y="4684680"/>
            <a:ext cx="1181160" cy="600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348000" y="5246640"/>
            <a:ext cx="1952640" cy="647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79280" y="4971960"/>
            <a:ext cx="1209960" cy="800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5638680" y="5197320"/>
            <a:ext cx="733680" cy="752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7116840" y="5157720"/>
            <a:ext cx="1200240" cy="857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8082000" y="4653000"/>
            <a:ext cx="666720" cy="895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1332000" y="4836960"/>
            <a:ext cx="2019240" cy="552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1116000" y="5661000"/>
            <a:ext cx="244800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f5ff"/>
                </a:solidFill>
                <a:latin typeface="Arial"/>
              </a:rPr>
              <a:t>Based on experience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Builds on lessons from previous frameworks and from use by 15 region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As simple as possible, but comprehensive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Highly structured and guided proces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7f5ff"/>
                </a:solidFill>
                <a:latin typeface="Arial"/>
              </a:rPr>
              <a:t>Template</a:t>
            </a:r>
            <a:endParaRPr b="1" lang="en-US" sz="2000" spc="-1" strike="noStrike">
              <a:solidFill>
                <a:srgbClr val="97f5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Actively supported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7f5ff"/>
                </a:solidFill>
                <a:latin typeface="Arial"/>
              </a:rPr>
              <a:t>Help desk</a:t>
            </a:r>
            <a:endParaRPr b="1" lang="en-US" sz="20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7f5ff"/>
                </a:solidFill>
                <a:latin typeface="Arial"/>
              </a:rPr>
              <a:t>Workshops</a:t>
            </a:r>
            <a:endParaRPr b="1" lang="en-US" sz="20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7f5ff"/>
                </a:solidFill>
                <a:latin typeface="Arial"/>
              </a:rPr>
              <a:t>Regular phone-hookup meetings</a:t>
            </a:r>
            <a:endParaRPr b="1" lang="en-US" sz="2000" spc="-1" strike="noStrike">
              <a:solidFill>
                <a:srgbClr val="97f5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ully documented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7f5ff"/>
                </a:solidFill>
                <a:latin typeface="Arial"/>
              </a:rPr>
              <a:t>All documents freely available at </a:t>
            </a:r>
            <a:r>
              <a:rPr b="1" lang="en-US" sz="2000" spc="-1" strike="noStrike" u="sng">
                <a:solidFill>
                  <a:srgbClr val="00ffff"/>
                </a:solidFill>
                <a:uFillTx/>
                <a:latin typeface="Arial"/>
                <a:hlinkClick r:id="rId1"/>
              </a:rPr>
              <a:t>www.inffer.org</a:t>
            </a:r>
            <a:endParaRPr b="1" lang="en-US" sz="2000" spc="-1" strike="noStrike">
              <a:solidFill>
                <a:srgbClr val="97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d6fc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d6fc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d6fc7"/>
                                </p:to>
                              </p:animCl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d6fc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d6fc7"/>
                                </p:to>
                              </p:animCl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d6fc7"/>
                                </p:to>
                              </p:animCl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d6fc7"/>
                                </p:to>
                              </p:animCl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d6fc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916360" y="2276640"/>
            <a:ext cx="3317760" cy="2450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H="1" flipV="1">
            <a:off x="2268360" y="2637000"/>
            <a:ext cx="1727280" cy="86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12600" y="47520"/>
            <a:ext cx="2527560" cy="1313640"/>
          </a:xfrm>
          <a:prstGeom prst="rect">
            <a:avLst/>
          </a:prstGeom>
          <a:solidFill>
            <a:srgbClr val="101d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 u="sng">
                <a:solidFill>
                  <a:srgbClr val="ffffff"/>
                </a:solidFill>
                <a:uFillTx/>
                <a:latin typeface="Trebuchet MS"/>
              </a:rPr>
              <a:t>River re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Trebuchet MS"/>
              </a:rPr>
              <a:t>Intact native ve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Trebuchet MS"/>
              </a:rPr>
              <a:t>Cultural heritag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Trebuchet MS"/>
              </a:rPr>
              <a:t>Woodland bi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53640" y="3284640"/>
            <a:ext cx="2510640" cy="1008720"/>
          </a:xfrm>
          <a:prstGeom prst="rect">
            <a:avLst/>
          </a:prstGeom>
          <a:solidFill>
            <a:srgbClr val="101d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 u="sng">
                <a:solidFill>
                  <a:srgbClr val="ffffff"/>
                </a:solidFill>
                <a:uFillTx/>
                <a:latin typeface="Trebuchet MS"/>
              </a:rPr>
              <a:t>Wet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Trebuchet MS"/>
              </a:rPr>
              <a:t>Listed on regi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Trebuchet MS"/>
              </a:rPr>
              <a:t>Last of its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44200" y="3586320"/>
            <a:ext cx="3012120" cy="1008720"/>
          </a:xfrm>
          <a:prstGeom prst="rect">
            <a:avLst/>
          </a:prstGeom>
          <a:solidFill>
            <a:srgbClr val="101d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 u="sng">
                <a:solidFill>
                  <a:srgbClr val="ffffff"/>
                </a:solidFill>
                <a:uFillTx/>
                <a:latin typeface="Trebuchet MS"/>
              </a:rPr>
              <a:t>Threatened spe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Trebuchet MS"/>
              </a:rPr>
              <a:t>Flag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Trebuchet MS"/>
              </a:rPr>
              <a:t>Critically endange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372360" y="1730520"/>
            <a:ext cx="2771640" cy="1842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243320" y="5430960"/>
            <a:ext cx="4920120" cy="1313640"/>
          </a:xfrm>
          <a:prstGeom prst="rect">
            <a:avLst/>
          </a:prstGeom>
          <a:solidFill>
            <a:srgbClr val="101d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 u="sng">
                <a:solidFill>
                  <a:srgbClr val="ffffff"/>
                </a:solidFill>
                <a:uFillTx/>
                <a:latin typeface="Trebuchet MS"/>
              </a:rPr>
              <a:t>Native vege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Trebuchet MS"/>
              </a:rPr>
              <a:t>Concentration of threatened spe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Trebuchet MS"/>
              </a:rPr>
              <a:t>Near pristine cond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Trebuchet MS"/>
              </a:rPr>
              <a:t>Important lo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4788000" y="4005000"/>
            <a:ext cx="1224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189320" y="3141360"/>
            <a:ext cx="814320" cy="168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859280" y="2133720"/>
            <a:ext cx="433440" cy="7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348000" y="0"/>
            <a:ext cx="2990880" cy="2257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0" y="1295280"/>
            <a:ext cx="2981160" cy="200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446120" y="4797360"/>
            <a:ext cx="2981520" cy="20001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93920" y="317520"/>
            <a:ext cx="2204640" cy="520560"/>
          </a:xfrm>
          <a:prstGeom prst="rect">
            <a:avLst/>
          </a:prstGeom>
          <a:solidFill>
            <a:srgbClr val="101d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rebuchet MS"/>
              </a:rPr>
              <a:t>Asset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f5ff"/>
                </a:solidFill>
                <a:latin typeface="Arial"/>
              </a:rPr>
              <a:t>What is the output?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An assessment for each asse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f5ff"/>
                </a:solidFill>
                <a:latin typeface="Arial"/>
              </a:rPr>
              <a:t>Background information about the asset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f5ff"/>
                </a:solidFill>
                <a:latin typeface="Arial"/>
              </a:rPr>
              <a:t>A specific, measurable, time-bound goal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f5ff"/>
                </a:solidFill>
                <a:latin typeface="Arial"/>
              </a:rPr>
              <a:t>On-ground works that will achieve that goal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f5ff"/>
                </a:solidFill>
                <a:latin typeface="Arial"/>
              </a:rPr>
              <a:t>Delivery actions that will result in those works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f5ff"/>
                </a:solidFill>
                <a:latin typeface="Arial"/>
              </a:rPr>
              <a:t>Information about asset value, threats/damage, technical feasibility, socio-economic feasibility, urgency, cost, risks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f5ff"/>
                </a:solidFill>
                <a:latin typeface="Arial"/>
              </a:rPr>
              <a:t>Benefit:Cost Index (comparable across projects)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d6fc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d6fc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d6fc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d6fc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d6fc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d6fc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21:15:52Z</dcterms:created>
  <dc:creator>David Pannell</dc:creator>
  <dc:description/>
  <dc:language>en-US</dc:language>
  <cp:lastModifiedBy>David Pannell</cp:lastModifiedBy>
  <dcterms:modified xsi:type="dcterms:W3CDTF">2011-08-31T13:23:54Z</dcterms:modified>
  <cp:revision>94</cp:revision>
  <dc:subject/>
  <dc:title>INFFER  (Investment Framework For Environmental Resources)</dc:title>
</cp:coreProperties>
</file>